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64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361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361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FEA5-BFF4-49F2-AD9C-9E1B2D27BA3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92361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875B-A627-463B-BDB2-A4CF972A1E0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044720" y="76356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649400"/>
            <a:ext cx="5029200" cy="43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92361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EBAF-0F5E-4E65-995D-7AC88B2E55B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044720" y="76356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649400"/>
            <a:ext cx="5029200" cy="43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92361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4CF1-1407-4FB9-8856-4342FA79ADC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92361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B007-9079-493D-8C7E-F3A3545B981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92361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3AA5-EB24-4CEC-AEE1-4A7C878F42A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92361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E0B9-F4D4-4D1B-9BD1-DC0B47B3936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92361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B7D5-BD04-413E-87F0-AEE0C2E0607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92361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BFF0-18D1-4C7A-8F7A-3AC0B83216F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44720" y="76356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649400"/>
            <a:ext cx="5029200" cy="43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92361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66D0-0EA5-4BB3-964D-B67D844A6C6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92361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C94A-15F3-4F2A-ACB1-7C9B9CEF3E5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8640" y="730080"/>
            <a:ext cx="4862520" cy="36468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B643-C7F1-4582-9EC8-EADF06BE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57E-0E40-4698-9BA3-DE58A652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131A-B77F-4586-8F36-05C096BC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0A6-FD44-479A-8053-87EA6141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A9B-FFD7-4CD3-9DCB-065F8A5A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4E42-EFC3-4524-AE76-EFA1CF93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592-7284-4A90-AB61-11BAC406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351-1041-40E8-B062-61F554F0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DDA5-0BAB-47BE-8570-35635967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E8B-4B8A-485C-BF9F-5B0F8411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6D28-EE01-4CD4-9867-17A4C094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23E-BEEB-449C-B43E-19034A72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3884-3CE7-47B9-9857-F64FC2E2AF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50000"/>
              </a:lnSpc>
              <a:spcBef>
                <a:spcPts val="2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685800" cy="59436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57959" t="19891" r="6820" b="16503"/>
          <a:stretch/>
        </p:blipFill>
        <p:spPr>
          <a:xfrm>
            <a:off x="0" y="6019920"/>
            <a:ext cx="81288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685800" y="137160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533520" y="1295280"/>
            <a:ext cx="861048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Le politiche e gli strumenti a supporto delle PMI itali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LUI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10 giugno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295280" y="4572000"/>
            <a:ext cx="670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Tahoma"/>
              </a:rPr>
              <a:t>Valentina Car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Tahoma"/>
              </a:rPr>
              <a:t>Area Fiscalità, Finanza e Welf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Tahoma"/>
              </a:rPr>
              <a:t>Conf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50000"/>
              </a:lnSpc>
              <a:spcBef>
                <a:spcPts val="2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0"/>
            <a:ext cx="685800" cy="59436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57959" t="19891" r="6820" b="16503"/>
          <a:stretch/>
        </p:blipFill>
        <p:spPr>
          <a:xfrm>
            <a:off x="0" y="6019920"/>
            <a:ext cx="812880" cy="838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685800" y="137160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33520" y="1295280"/>
            <a:ext cx="86104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…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e gli strumenti a supporto delle P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295280" y="4572000"/>
            <a:ext cx="6705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57956" t="19886" r="6821" b="16492"/>
          <a:stretch/>
        </p:blipFill>
        <p:spPr>
          <a:xfrm>
            <a:off x="0" y="6012000"/>
            <a:ext cx="812880" cy="83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0"/>
            <a:ext cx="685800" cy="59436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6248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80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Fondo di garanzia per le P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990720"/>
            <a:ext cx="822960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cc"/>
                </a:solidFill>
                <a:latin typeface="Tahoma"/>
              </a:rPr>
              <a:t>Novità prev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66cc"/>
                </a:solidFill>
                <a:latin typeface="Tahoma"/>
              </a:rPr>
              <a:t>garanzia di ultima istanza dello Stato (cd ponderazione z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66cc"/>
                </a:solidFill>
                <a:latin typeface="Tahoma"/>
              </a:rPr>
              <a:t>importo massimo garantito dal fondo da 500.000 a 1.500.000 di e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cc"/>
                </a:solidFill>
                <a:latin typeface="Tahoma"/>
              </a:rPr>
              <a:t>Stanziamento per il 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</a:rPr>
              <a:t>È in corso di definizione il decreto MSE di concerto con MEF che assegna al Fondo circa 200 milioni per il 2009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</a:rPr>
              <a:t>Stanziamento totale previsto 2009-2012 : oltre 1,5 miliardi di euro + risorse derivanti da Tremonti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cc"/>
                </a:solidFill>
                <a:latin typeface="Tahoma"/>
              </a:rPr>
              <a:t>Riduzione quota di accant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</a:rPr>
              <a:t>Allo studio l’ipotesi di ridurre a 8%, almeno per le operazioni meno rischiose, la percentuale di accantonamento,  oggi in media 11,7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57956" t="19886" r="6821" b="16492"/>
          <a:stretch/>
        </p:blipFill>
        <p:spPr>
          <a:xfrm>
            <a:off x="0" y="6012000"/>
            <a:ext cx="812880" cy="838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0"/>
            <a:ext cx="685800" cy="59436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6248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Ritardi di pagamento della P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La certificazione dei cred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914400"/>
            <a:ext cx="815328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Decreto M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Le imprese, entro il 31 dicembre 2009, possono richiedere a Regioni ed enti locali di certificare che i crediti siano certi, liquidi ed esigibili, ai fini di cessione </a:t>
            </a:r>
            <a:r>
              <a:rPr b="0" i="1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pro soluto</a:t>
            </a: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 a banche o intermediari finanziar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Sono esclusi i crediti vantati nei confronti delle amministrazioni sanita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25"/>
              </a:spcAft>
              <a:buClr>
                <a:srgbClr val="0066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L’amministrazione debitrice, nel rispetto del patto di stabilità inter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25"/>
              </a:spcAft>
              <a:buClr>
                <a:srgbClr val="0066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 </a:t>
            </a: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entro 20 giorni </a:t>
            </a:r>
            <a:r>
              <a:rPr b="0" lang="it-IT" sz="2000" spc="-1" strike="noStrike" u="sng">
                <a:solidFill>
                  <a:srgbClr val="0066cc"/>
                </a:solidFill>
                <a:uFillTx/>
                <a:latin typeface="Tahoma"/>
                <a:ea typeface="Arial"/>
              </a:rPr>
              <a:t>può</a:t>
            </a: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 certificare l’esigibilità del cred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25"/>
              </a:spcAft>
              <a:buClr>
                <a:srgbClr val="0066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 </a:t>
            </a: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deve indicare modalità e tempi del paga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25"/>
              </a:spcAft>
              <a:buClr>
                <a:srgbClr val="0066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 </a:t>
            </a: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deve dare tempestiva comunicazione se credito inesigib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25"/>
              </a:spcAft>
              <a:buClr>
                <a:srgbClr val="0066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 </a:t>
            </a: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può compensare il debito con eventuali cred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25"/>
              </a:spcAft>
              <a:buClr>
                <a:srgbClr val="0066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57956" t="19886" r="6821" b="16492"/>
          <a:stretch/>
        </p:blipFill>
        <p:spPr>
          <a:xfrm>
            <a:off x="0" y="6012000"/>
            <a:ext cx="812880" cy="838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0"/>
            <a:ext cx="685800" cy="59436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6248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Ritardi di pagamento della 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Interventi S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143000"/>
            <a:ext cx="7772400" cy="54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Decreto M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 </a:t>
            </a: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In materia di </a:t>
            </a:r>
            <a:r>
              <a:rPr b="0" lang="it-IT" sz="2000" spc="-1" strike="noStrike" u="sng">
                <a:solidFill>
                  <a:srgbClr val="0066cc"/>
                </a:solidFill>
                <a:uFillTx/>
                <a:latin typeface="Tahoma"/>
                <a:ea typeface="Arial"/>
              </a:rPr>
              <a:t>ritardi di pagamento</a:t>
            </a: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 della P.A, la SA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920" indent="-6480" algn="just">
              <a:lnSpc>
                <a:spcPct val="100000"/>
              </a:lnSpc>
              <a:spcAft>
                <a:spcPts val="499"/>
              </a:spcAft>
              <a:buClr>
                <a:srgbClr val="0066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 </a:t>
            </a: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assicura o garantisce le banche che concedono finanziamenti alle imprese utilizzando come parziale garanzia il credito vantato verso la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920" indent="-6480" algn="just">
              <a:lnSpc>
                <a:spcPct val="100000"/>
              </a:lnSpc>
              <a:spcAft>
                <a:spcPts val="499"/>
              </a:spcAft>
              <a:buClr>
                <a:srgbClr val="0066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 </a:t>
            </a: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riassicura/coassicura le polizze assicurative rilasciate da imprese di assicurazione a copertura del rischio di ritardato pagamento della P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920" indent="-6480" algn="just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In materia di </a:t>
            </a:r>
            <a:r>
              <a:rPr b="0" lang="it-IT" sz="2000" spc="-1" strike="noStrike" u="sng">
                <a:solidFill>
                  <a:srgbClr val="0066cc"/>
                </a:solidFill>
                <a:uFillTx/>
                <a:latin typeface="Tahoma"/>
                <a:ea typeface="Arial"/>
              </a:rPr>
              <a:t>incentivi auto</a:t>
            </a: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, la S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920" indent="-6480" algn="just">
              <a:lnSpc>
                <a:spcPct val="100000"/>
              </a:lnSpc>
              <a:spcAft>
                <a:spcPts val="499"/>
              </a:spcAft>
              <a:buClr>
                <a:srgbClr val="0066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 </a:t>
            </a: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assicura o garantisce i finanziamenti erogati da banche per l’ acquisto di autoveicoli, motoveicoli e veicoli commerc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920" indent="-6480" algn="just">
              <a:lnSpc>
                <a:spcPct val="100000"/>
              </a:lnSpc>
              <a:spcAft>
                <a:spcPts val="499"/>
              </a:spcAft>
              <a:buClr>
                <a:srgbClr val="0066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 </a:t>
            </a: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riassicura/coassicura le polizze assicurative rilasciate da imprese di assicu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920" indent="-6480" algn="just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920" indent="-6480" algn="just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57956" t="19886" r="6821" b="16492"/>
          <a:stretch/>
        </p:blipFill>
        <p:spPr>
          <a:xfrm>
            <a:off x="0" y="6012000"/>
            <a:ext cx="812880" cy="838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0"/>
            <a:ext cx="685800" cy="59436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6248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57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assa Depositi e Prestiti 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il finanziamento delle P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371600"/>
            <a:ext cx="7772400" cy="78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cc"/>
                </a:solidFill>
                <a:latin typeface="Tahoma"/>
                <a:ea typeface="Arial"/>
              </a:rPr>
              <a:t> </a:t>
            </a:r>
            <a:r>
              <a:rPr b="1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Ammontare intervento C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66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Provvista fino a 8 miliardi al sistema bancario. Prima tranche di 3 miliardi, distribuiti alle banche pro quota mercato riferita a PM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Condizioni e modal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66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 </a:t>
            </a: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costo provvista banche (condizioni di mercato ma ai livelli più bassi): Euribor semestrale+0,75/0,95 rispettivamente per banche con Tier 1 superiore a 7% e inferiore a 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66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 </a:t>
            </a: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costo imprese: costo provvista + sp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66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 </a:t>
            </a: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banche fanno istrut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66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 </a:t>
            </a: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solo per nuovi finanzia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66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Attu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66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cc"/>
                </a:solidFill>
                <a:latin typeface="Tahoma"/>
                <a:ea typeface="Arial"/>
              </a:rPr>
              <a:t> </a:t>
            </a: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adeguato lo Statuto C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66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 </a:t>
            </a: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sottoscritto accordo quadro e convenzione con A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66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 </a:t>
            </a:r>
            <a:r>
              <a:rPr b="0" lang="it-IT" sz="2000" spc="-1" strike="noStrike">
                <a:solidFill>
                  <a:srgbClr val="0066cc"/>
                </a:solidFill>
                <a:latin typeface="Tahoma"/>
                <a:ea typeface="Arial"/>
              </a:rPr>
              <a:t>convenzioni tra CDP e le singole banche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66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66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66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57959" t="19891" r="6820" b="16503"/>
          <a:stretch/>
        </p:blipFill>
        <p:spPr>
          <a:xfrm>
            <a:off x="0" y="6012000"/>
            <a:ext cx="812880" cy="8380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0" y="0"/>
            <a:ext cx="685800" cy="59436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324480" y="6248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914400" y="457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I prestiti banc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685800" y="1219320"/>
            <a:ext cx="800100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lnSpc>
                <a:spcPct val="80000"/>
              </a:lnSpc>
              <a:spcBef>
                <a:spcPts val="15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ctr">
              <a:lnSpc>
                <a:spcPct val="80000"/>
              </a:lnSpc>
              <a:spcBef>
                <a:spcPts val="15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ctr">
              <a:lnSpc>
                <a:spcPct val="80000"/>
              </a:lnSpc>
              <a:spcBef>
                <a:spcPts val="15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Continua il rallentamento del tasso di crescita del credito alle impr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66cc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66cc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marzo 2009:    + 4,1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66cc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febbraio 2009: + 5,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66cc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gennaio 2009: + 6,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>
              <a:lnSpc>
                <a:spcPct val="90000"/>
              </a:lnSpc>
              <a:spcBef>
                <a:spcPts val="15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57959" t="19891" r="6820" b="16503"/>
          <a:stretch/>
        </p:blipFill>
        <p:spPr>
          <a:xfrm>
            <a:off x="0" y="6012000"/>
            <a:ext cx="812880" cy="838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0"/>
            <a:ext cx="685800" cy="59436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6324480" y="6248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914400" y="1598760"/>
            <a:ext cx="800100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80000"/>
              </a:lnSpc>
              <a:spcBef>
                <a:spcPts val="1500"/>
              </a:spcBef>
              <a:spcAft>
                <a:spcPts val="1049"/>
              </a:spcAft>
              <a:buClr>
                <a:srgbClr val="0066cc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>
              <a:lnSpc>
                <a:spcPct val="90000"/>
              </a:lnSpc>
              <a:spcBef>
                <a:spcPts val="15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1295280" y="990720"/>
            <a:ext cx="7162920" cy="472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rcRect l="57959" t="19891" r="6820" b="16503"/>
          <a:stretch/>
        </p:blipFill>
        <p:spPr>
          <a:xfrm>
            <a:off x="0" y="6012000"/>
            <a:ext cx="812880" cy="8380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685800" cy="59436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324480" y="6248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14400" y="1600200"/>
            <a:ext cx="800100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80000"/>
              </a:lnSpc>
              <a:spcBef>
                <a:spcPts val="1500"/>
              </a:spcBef>
              <a:spcAft>
                <a:spcPts val="1049"/>
              </a:spcAft>
              <a:buClr>
                <a:srgbClr val="0066cc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>
              <a:lnSpc>
                <a:spcPct val="90000"/>
              </a:lnSpc>
              <a:spcBef>
                <a:spcPts val="15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990720" y="22860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1305000" y="762120"/>
            <a:ext cx="63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Indagine trimestrale BCE - febbraio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095880" cy="419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57959" t="19891" r="6820" b="16503"/>
          <a:stretch/>
        </p:blipFill>
        <p:spPr>
          <a:xfrm>
            <a:off x="0" y="6012000"/>
            <a:ext cx="812880" cy="8380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0" y="0"/>
            <a:ext cx="685800" cy="59436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324480" y="6248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457200" y="304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I tassi di inte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762120" y="16002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1371600" y="1295280"/>
            <a:ext cx="6858000" cy="464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57959" t="19891" r="6820" b="16503"/>
          <a:stretch/>
        </p:blipFill>
        <p:spPr>
          <a:xfrm>
            <a:off x="0" y="6012000"/>
            <a:ext cx="812880" cy="8380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0" y="0"/>
            <a:ext cx="685800" cy="59436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6324480" y="6248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457200" y="304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ahoma"/>
              </a:rPr>
              <a:t>L’Euribor negli ultimi 12 mesi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762120" y="16002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228600" y="-9795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330200" y="1371600"/>
            <a:ext cx="69390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228600" y="5878440"/>
            <a:ext cx="86868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14"/>
          <p:cNvGrpSpPr/>
          <p:nvPr/>
        </p:nvGrpSpPr>
        <p:grpSpPr>
          <a:xfrm>
            <a:off x="762120" y="3886200"/>
            <a:ext cx="8228880" cy="1936800"/>
            <a:chOff x="762120" y="3886200"/>
            <a:chExt cx="8228880" cy="1936800"/>
          </a:xfrm>
        </p:grpSpPr>
        <p:sp>
          <p:nvSpPr>
            <p:cNvPr id="86" name="Rectangle 11"/>
            <p:cNvSpPr/>
            <p:nvPr/>
          </p:nvSpPr>
          <p:spPr>
            <a:xfrm>
              <a:off x="762120" y="3886200"/>
              <a:ext cx="822888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ltimo an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2"/>
            <p:cNvSpPr/>
            <p:nvPr/>
          </p:nvSpPr>
          <p:spPr>
            <a:xfrm>
              <a:off x="762120" y="4130640"/>
              <a:ext cx="8228880" cy="16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10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rentegrafiek-euribor3mnd1jr-73" descr=""/>
          <p:cNvPicPr/>
          <p:nvPr/>
        </p:nvPicPr>
        <p:blipFill>
          <a:blip r:embed="rId2"/>
          <a:stretch/>
        </p:blipFill>
        <p:spPr>
          <a:xfrm>
            <a:off x="1905120" y="1752480"/>
            <a:ext cx="5562360" cy="37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50000"/>
              </a:lnSpc>
              <a:spcBef>
                <a:spcPts val="2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0"/>
            <a:ext cx="685800" cy="59436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57959" t="19891" r="6820" b="16503"/>
          <a:stretch/>
        </p:blipFill>
        <p:spPr>
          <a:xfrm>
            <a:off x="0" y="6019920"/>
            <a:ext cx="812880" cy="838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685800" y="137160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33520" y="1295280"/>
            <a:ext cx="86104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Le politiche a supporto delle P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295280" y="4572000"/>
            <a:ext cx="6705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57959" t="19891" r="6820" b="16503"/>
          <a:stretch/>
        </p:blipFill>
        <p:spPr>
          <a:xfrm>
            <a:off x="0" y="6012000"/>
            <a:ext cx="812880" cy="838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0" y="0"/>
            <a:ext cx="685800" cy="59436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324480" y="6248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57200" y="304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Le azioni di Conf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762120" y="990720"/>
            <a:ext cx="8229600" cy="60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cc"/>
                </a:solidFill>
                <a:latin typeface="Tahoma"/>
              </a:rPr>
              <a:t>Richieste al Governo su: Fondo di Garanzia per le PMI, Ritardi di pagamento della PA, innalzamento soglia compensazione crediti tributari e previdenziali, detassazione utili reinvest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cc"/>
                </a:solidFill>
                <a:latin typeface="Tahoma"/>
              </a:rPr>
              <a:t>collaborazione Confindustria-ABI/banche: Tavolo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30000"/>
              </a:lnSpc>
              <a:spcBef>
                <a:spcPts val="601"/>
              </a:spcBef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 algn="just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cc"/>
                </a:solidFill>
                <a:latin typeface="Tahoma"/>
              </a:rPr>
              <a:t>monitoraggio rapporto banca-impresa sul territorio: Tavoli loc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 algn="just">
              <a:lnSpc>
                <a:spcPct val="40000"/>
              </a:lnSpc>
              <a:spcBef>
                <a:spcPts val="601"/>
              </a:spcBef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 algn="just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cc"/>
                </a:solidFill>
                <a:latin typeface="Tahoma"/>
              </a:rPr>
              <a:t>sezione del sito Confindustria dedicata alla crisi finanziaria e all’accesso al cred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Aft>
                <a:spcPts val="1349"/>
              </a:spcAft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57959" t="19891" r="6820" b="16503"/>
          <a:stretch/>
        </p:blipFill>
        <p:spPr>
          <a:xfrm>
            <a:off x="0" y="6012000"/>
            <a:ext cx="812880" cy="8380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0" y="0"/>
            <a:ext cx="685800" cy="59436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324480" y="6248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62120" y="3808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ahoma"/>
              </a:rPr>
              <a:t>Le azioni del Governo. “Tremonti Bond”, monitoraggio del credito e prefet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62120" y="1219320"/>
            <a:ext cx="8229600" cy="42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Aft>
                <a:spcPts val="1250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Provvedimento in</a:t>
            </a:r>
            <a:r>
              <a:rPr b="1" lang="en-US" sz="2000" spc="-1" strike="noStrike">
                <a:solidFill>
                  <a:srgbClr val="0066cc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  <a:ea typeface="Arial"/>
              </a:rPr>
              <a:t>grado di favorire il</a:t>
            </a:r>
            <a:r>
              <a:rPr b="1" lang="en-US" sz="2000" spc="-1" strike="noStrike">
                <a:solidFill>
                  <a:srgbClr val="0066cc"/>
                </a:solidFill>
                <a:latin typeface="Tahoma"/>
                <a:ea typeface="Arial"/>
              </a:rPr>
              <a:t> rafforzamento patrimoniale delle ban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Aft>
                <a:spcPts val="1250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ahoma"/>
              </a:rPr>
              <a:t>Vantaggi per le imprese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 se le banche emettenti titoli rispetteranno gli impegni assunti con il protocollo d’int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Aft>
                <a:spcPts val="1250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ahoma"/>
              </a:rPr>
              <a:t>Creazione di osservatori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 regionali presso le prefetture con la partecipazione anche di rappresentanti delle associazioni di Confindust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ahoma"/>
                <a:ea typeface="Times New Roman"/>
              </a:rPr>
              <a:t>Ruolo dei prefetti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  <a:ea typeface="Times New Roman"/>
              </a:rPr>
              <a:t>: monitoraggio del credito a livello locale e trasmissione alle banche delle segnalazioni su singole pratiche per un rie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08:00Z</dcterms:created>
  <dc:creator>VCarlini</dc:creator>
  <dc:description/>
  <dc:language>en-US</dc:language>
  <cp:lastModifiedBy>VCarlini</cp:lastModifiedBy>
  <dcterms:modified xsi:type="dcterms:W3CDTF">2009-06-10T11:22:57Z</dcterms:modified>
  <cp:revision>60</cp:revision>
  <dc:subject/>
  <dc:title>Presentazione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85660599</vt:r8>
  </property>
  <property fmtid="{D5CDD505-2E9C-101B-9397-08002B2CF9AE}" pid="3" name="_AuthorEmail">
    <vt:lpwstr>guida@cndcec.it</vt:lpwstr>
  </property>
  <property fmtid="{D5CDD505-2E9C-101B-9397-08002B2CF9AE}" pid="4" name="_AuthorEmailDisplayName">
    <vt:lpwstr>Guida Marianna</vt:lpwstr>
  </property>
  <property fmtid="{D5CDD505-2E9C-101B-9397-08002B2CF9AE}" pid="5" name="_EmailSubject">
    <vt:lpwstr>ATTI Convegno 10 giugno LUISS - 3/4</vt:lpwstr>
  </property>
</Properties>
</file>